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DBF-D10A-4132-938F-4356C2FC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C7E-414C-4176-B725-84D3BE2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17-BF5A-452B-8FAC-1E02712D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70B-E6B0-4BBB-A2BE-BEBD330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766-175F-47B5-AD49-A8E7326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7D4-D784-46CB-97A4-71BC6048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F9-3F84-4241-8936-1FA2C3BB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424-C252-4E4C-98A7-CA71D1FA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820-A665-45BD-9B10-BA20EAE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53D-4716-4C70-9279-CA3143F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33F-7398-4C31-BC83-8B98E89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7A7-6842-45C2-AB10-CFB36EE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22D2-135C-41CF-BDD3-345E816B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ыделение приоритетных ореолов рассеяния минералов-спутников алмазоносных кимберлитов по характеру распределения микропримесей в граната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на примере Зимнебережного алмазоносного райо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6080"/>
            <a:ext cx="446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.М Саблуков, Л.И. Саблу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НПК «РУСГЕО», Москва, Росс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.Л. Грифф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SIRO Exploration and Mining, Sydney,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367000"/>
            <a:ext cx="3529080" cy="262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95760" y="2349360"/>
            <a:ext cx="4424400" cy="446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6156360" y="4797000"/>
            <a:ext cx="0" cy="1584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7020000" y="5013000"/>
            <a:ext cx="0" cy="136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1280" y="541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8000" y="71280"/>
            <a:ext cx="6840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5599080"/>
            <a:ext cx="230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акрокомпонен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остава пиропов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r2O3 – CaO – Ti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1159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имний Бере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e-Ti-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ер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36291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убка 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1280" y="110808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чугский к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23840"/>
            <a:ext cx="3275280" cy="2441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313080" cy="2470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635280" y="189000"/>
            <a:ext cx="3241800" cy="2355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635280" y="2665440"/>
            <a:ext cx="3230640" cy="2347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71840" y="4048200"/>
            <a:ext cx="19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Богаче в 30-50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580536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Качественное несоответствие критериям алмазоно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21200" y="4906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54840" y="292428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20952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,3% 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58680" y="270828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,7% 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000" y="71280"/>
            <a:ext cx="6840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5672160"/>
            <a:ext cx="20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Сопоставление с критерием алмазоносности, Соболев, 19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73188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имний Бере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l-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ер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олотицкий ку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8120" y="155736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ница в 2-3 р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790800" y="2362320"/>
            <a:ext cx="3086280" cy="224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9280" y="9828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780000" y="150840"/>
            <a:ext cx="3024000" cy="219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79280" y="4527720"/>
            <a:ext cx="3024360" cy="225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780000" y="4560840"/>
            <a:ext cx="3024000" cy="219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164360" y="28908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имний Бере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Fe-Ti-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е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69240" y="35244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ница в 30-50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47926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Средний Ти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12360" y="508464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полное соотве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1640" y="48099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37200" y="4762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37200" y="26496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7680" y="46530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% 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00360" y="6237360"/>
            <a:ext cx="1655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5300640"/>
            <a:ext cx="1655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300640"/>
            <a:ext cx="1655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0720" y="44280"/>
            <a:ext cx="4608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4280"/>
            <a:ext cx="4427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04000" y="422424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04000" y="21366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05440" y="115920"/>
            <a:ext cx="2159280" cy="2016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5229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5229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-Ti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6237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365720"/>
            <a:ext cx="32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бенности распределения микроэлементов в пиропах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iO2 –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r -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2195640" y="2136600"/>
            <a:ext cx="2160360" cy="2017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195640" y="115920"/>
            <a:ext cx="2160360" cy="2031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8160" y="115920"/>
            <a:ext cx="2095560" cy="2449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25560" y="2131920"/>
            <a:ext cx="2097000" cy="2449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4637160" y="115920"/>
            <a:ext cx="2095560" cy="2449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4572000" y="2133720"/>
            <a:ext cx="21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4575240" y="4221000"/>
            <a:ext cx="2157480" cy="251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8600" y="565956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Золотица -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8752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олотица - 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3800" y="56610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ccff"/>
                </a:solidFill>
                <a:latin typeface="Arial"/>
              </a:rPr>
              <a:t>Пач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87700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2920" y="44280"/>
            <a:ext cx="4716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44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2565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-Ti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4360" y="1159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спределения микро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 пиропах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r,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11240"/>
            <a:ext cx="4092480" cy="6630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930920" y="6922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Золотица -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191628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олотица - 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9280" y="3213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ccff"/>
                </a:solidFill>
                <a:latin typeface="Arial"/>
              </a:rPr>
              <a:t>Пач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59280" y="443700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5734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2920" y="44280"/>
            <a:ext cx="4716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44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2565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-Ti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1159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спределения микро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 пиропах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iO2, 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0920" y="6922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Золотица -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191628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олотица - 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3213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ccff"/>
                </a:solidFill>
                <a:latin typeface="Arial"/>
              </a:rPr>
              <a:t>Пач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443700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5734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0892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2920" y="44280"/>
            <a:ext cx="4716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4428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2565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e-Ti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115920"/>
            <a:ext cx="180036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спределения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(Ni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(Cr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кб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30920" y="6922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Золотица -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191628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олотица - 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2200" y="3213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ccff"/>
                </a:solidFill>
                <a:latin typeface="Arial"/>
              </a:rPr>
              <a:t>Пач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4437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5734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40716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708360" y="476280"/>
            <a:ext cx="3240000" cy="63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476280"/>
            <a:ext cx="3240360" cy="63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Al-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0"/>
            <a:ext cx="158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Fe-Ti-</a:t>
            </a:r>
            <a:r>
              <a:rPr b="1" lang="ru-RU" sz="1400" spc="-1" strike="noStrike">
                <a:solidFill>
                  <a:srgbClr val="66cc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2360" y="476280"/>
            <a:ext cx="3019320" cy="3095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877080" y="4428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ермобаромет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иропов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(ni) – P(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4160" y="3573360"/>
            <a:ext cx="3019320" cy="30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782880" y="476280"/>
            <a:ext cx="3021120" cy="3097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3795840" y="3573360"/>
            <a:ext cx="3008160" cy="3084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1403280" y="2133360"/>
            <a:ext cx="0" cy="115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50920" y="2349000"/>
            <a:ext cx="0" cy="100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03280" y="5230440"/>
            <a:ext cx="0" cy="115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32360" y="2133360"/>
            <a:ext cx="0" cy="115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32360" y="5230440"/>
            <a:ext cx="0" cy="115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50920" y="5444640"/>
            <a:ext cx="0" cy="100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80000" y="2349000"/>
            <a:ext cx="0" cy="100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5444640"/>
            <a:ext cx="0" cy="100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38920" y="549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ccff"/>
                </a:solidFill>
                <a:latin typeface="Arial"/>
              </a:rPr>
              <a:t>Пач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3645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им. Гр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35280" y="37004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Золотица - 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17840" y="6922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Золотица -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197000"/>
            <a:ext cx="914400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6793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Al-</a:t>
            </a:r>
            <a:r>
              <a:rPr b="1" lang="ru-RU" sz="1400" spc="-1" strike="noStrike">
                <a:solidFill>
                  <a:srgbClr val="ff7c80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6793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ccff"/>
                </a:solidFill>
                <a:latin typeface="Arial"/>
              </a:rPr>
              <a:t>Зимний Бере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Fe-Ti-</a:t>
            </a:r>
            <a:r>
              <a:rPr b="1" lang="ru-RU" sz="1400" spc="-1" strike="noStrike">
                <a:solidFill>
                  <a:srgbClr val="66ccff"/>
                </a:solidFill>
                <a:latin typeface="Arial"/>
              </a:rPr>
              <a:t>се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4428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термобарометрии пиропов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(ni) – P(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84720" y="1281240"/>
            <a:ext cx="2936880" cy="3011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4920" y="1268280"/>
            <a:ext cx="2948040" cy="302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059280" y="1268280"/>
            <a:ext cx="2995560" cy="3024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1116000" y="2923920"/>
            <a:ext cx="0" cy="1081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763640" y="314136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140360" y="2923920"/>
            <a:ext cx="0" cy="1081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164360" y="2923920"/>
            <a:ext cx="0" cy="10810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788000" y="306828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812000" y="3141360"/>
            <a:ext cx="0" cy="8636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7080" y="765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8000" y="4816440"/>
            <a:ext cx="8928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Преимущества мет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Этот метод - обоюдоострое «оружие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С одной стороны – указывает на вероятное отсутствие алмазов даже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альном наличии пиропов алмазного параген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+ С другой стороны – указывает на возможную алмазоносность пород даже пр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альном отсутствии пиропов алмазного парагенези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2920" y="549360"/>
            <a:ext cx="3924360" cy="59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9440" y="11592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бенности распред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икроэлементов в пиропах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/Ga – Zr/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65200" y="2975040"/>
            <a:ext cx="3808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я состава гранатов п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ffin et al.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ons, &gt;2.5 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ns, 2.5-1.0 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tons, &lt;1 G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4920" y="620640"/>
            <a:ext cx="40086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4933800" cy="6813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967280" y="1890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распределения по площади Зимнебереж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кимберлитов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основных тип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мантийного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57440" y="728640"/>
            <a:ext cx="58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280"/>
            <a:ext cx="9144000" cy="674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77760"/>
            <a:ext cx="910908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снование постановк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инералогические критерии являются главными, а нередко и единственными поисковыми критериями, которые используются  при поисках кимберл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етод поисков месторождений алмазов по минералам-спутникам алмаза был впервые применён в начале 50-х годов ХХ века в ССС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открытии первых коренных месторождений алмаза на Сибирской платформе (Кухаренко, Сарсадских, Попугаева, Кинд, Хабардин и др.)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с тех пор с большой эффективностью применяется во всём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 далеко не каждая найденная кимберлитовая трубка является месторождением алмаза или даже содержит единичные алмазы.  Поэтому уже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 начала 70-х годов ХХ века в СССР метод поисков кимберлитов по минералам-спутникам алмаза был модифицирован (Соболев, 1971) в метод выделения ореолов пиропов и хромшпинелидов «алмазной ассоциаци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Благоприятным для поисков алмазоносных кимберлитов ореолом рассеяния минералов-спутников алмаза стал считаться лишь тот ореол, в котором среди минералов-спутников встречались парагенетические спутники алмаза – пиропы и хромшпинелиды по составу соответствующие минералам из включений в алмазы или из сростков с алмазами.  Состав минералов определялся с помощью рентгеноспектрального микроанализатора (электронного микрозонда). При этом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едполагалось, что чем больше доля минералов-спутников алмазной ассоциации среди общего количества минералов-спутников, тем более алмазоносными должны быть кимберлиты (Соболев, 1971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Однако и при использовании этого модифицированныго минералогического метода поисков происходили «отказы» (терминология В.А. Цыганова), то есть обнаруженная кимберлитовая трубка с высокой долей минералов-спутников «алмазной ассоциации» оказывалась убогоалмазоносной или неалмазоносной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приводило к неоправданным затратам времени, сил и средств на геолого-поисковые и геолого-разведочные работы на бесперспективных объектах.  Это явление, эти «отказы» </a:t>
            </a:r>
            <a:r>
              <a:rPr b="0" lang="ru-RU" sz="1200" spc="-1" strike="noStrike">
                <a:solidFill>
                  <a:srgbClr val="9900cc"/>
                </a:solidFill>
                <a:latin typeface="Arial"/>
              </a:rPr>
              <a:t>не находили объяснения при рассмотрении только макрокомпонентного состава минералов-спутников алмаза, как основного критерия потенциальной алмазоносности кимберли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конце 80-х, начале 90-х годов ХХ ве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вязи с появлением новых приборов и локальных методик определения в минералах микроэлементов (с помощью протонного микрозонда, ионного микрозонда и, наконец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 IC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нализа), появилась возможность установить причины «отказов» в применении минералогических методов поисков месторождений алмазов. 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азработанная методика интерпретации характера распределения микроэлементов в пиропах – определения температуры и давления образования минерала, степени воздействия мантийного метасоматоза (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iffin et al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., 1989;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anil et al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., 1991 и др.), позволила понять причины отсутствия (или убогого содержания) алмазов в некоторых трубках с высокой долей минералов-спутников «алмазной ассоциации» по критерию Соболев, 197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 России такие приборы (метод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LAM ICP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MS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) появились и вышли на рабочий режим в 2004 году (Центр Изотопных Исследований ФГУП ВСЕГЕИ, г. Санкт-Петербург), что сделало разработку новых, или совершенствования существующих минералогических критериев поисков месторождений алмазов не только крайне необходимой, но и вполне реальной и осуществимо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менно в настоящее время, когда открытие новых коренных месторождений алмаза становится одной из главных задач компании «АЛРОСА», разработка и внедрение в производство новых минералогических критериев поисков месторождений алмазов, может позволить резко сократить затраты времени, сил и средств на геолого-поисковые работы за счёт концентрации детальных поисковых работ на ореолах рассеяния МСА заведомо алмазоносных кимберлитов и прекращения или приостановки детальных поисковых работ на площадях с заведомо бесперспективными ореолами рассе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8000" y="0"/>
            <a:ext cx="57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85640" y="171360"/>
            <a:ext cx="5023080" cy="664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156360" y="19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хематический разрез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верхней мантии Зимнебереж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81640" y="2992320"/>
            <a:ext cx="268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(по результатам изучения мантийных ксеноли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2000" y="115920"/>
            <a:ext cx="66960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31960" y="274680"/>
            <a:ext cx="5680080" cy="5851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21440" y="2289240"/>
            <a:ext cx="61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Ижемский кус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360" y="2289240"/>
            <a:ext cx="529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Чидвински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ус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2160" y="2276640"/>
            <a:ext cx="47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Пачугски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кус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7080" y="2276640"/>
            <a:ext cx="525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Золотицки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куст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20720" y="2276640"/>
            <a:ext cx="4838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Им. Гриб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2520" y="2276640"/>
            <a:ext cx="432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Трубк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Суксом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0000" y="2276640"/>
            <a:ext cx="709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Трубки базальтов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98720" y="61578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Схематический разрез верхней мантии Зимнебережного района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647712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(по результатам изотопно-геохимических исслед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2964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3440" y="53737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197000"/>
            <a:ext cx="91440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8000" y="1192320"/>
            <a:ext cx="90360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варительной оценки потенциальной алмазоносности предполагаемого коренного или россыпного источ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обрать из соответствующего (каждого обособленного) шлихового ореола минералов-спутников с однородной историей экзогенного морфогенеза 30-60 зёрен пиропов, размером более 0,25 мм и выполнить следую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е в пиропах на рентгеновском микроанализаторе макрокомпонентов: SiO2, TiO2, Al2O3, Cr2O3, FeO, M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gO, CaO, Na2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е в пиропах методом LAM ICP-MS микроэлементов: Y, Zr, Ga, Ni, Ti, Nd, 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счёт температуры и давления образования пиропов по содержанию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P(Cr) кбар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троение дискриминационных диаграмм с выделенными полями реперных петрологических обстановок и процесс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r2O3 – CaO; TiO2 – CaO; TiO2 – Zr; Y – Zr; T(Ni)oC – Y;  T(Ni)oC – Zr; T(Ni)oC - P(Cr) , Nd/Y – Sc/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терпретация полученных данных: оценка доли пиропов с температурными параметрами «алмазного окна»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щих зоне стабильности алмаза, оценка степени воздействия расплавного и флогопитового мантий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асомато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деление, градация оставшихся шлиховых ореолов по увеличению доли пиропов с температурными параме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алмазного окна» и соответствующих зоне стабильности алмаза, а также по уменьшению степени воз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лавного и флогопитового мантийного метасомат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деление приоритетных ореолов рассеяния минералов-спутников заведомо алмазоносных кимберлитов по характе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я микроэлементов в гранатах для постановки более детальных поисковых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деление и отбраковка бесперспективных шлиховых ореолов заведомо неалмазоносных кимберли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ТР-параметрами образования, не соответствующими зоне стабильности алмаза и/или с высокой степен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я уничтожающего алмазы мантийного метасоматоза) для прекращения или приостановки более дет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х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80040" y="2080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79280" y="1690560"/>
            <a:ext cx="4176720" cy="3106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22680" y="260280"/>
            <a:ext cx="4497480" cy="4537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 flipV="1">
            <a:off x="6156360" y="2781000"/>
            <a:ext cx="0" cy="1584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020000" y="2997000"/>
            <a:ext cx="0" cy="1368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1280" y="339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89000"/>
            <a:ext cx="32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рь себе и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32000" y="620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.М.  Куваев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040" y="5537160"/>
            <a:ext cx="878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Мы желаем Всем Счасть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0" y="189000"/>
            <a:ext cx="6697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200" y="343080"/>
            <a:ext cx="6553440" cy="522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80" y="58053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Районы кимберлитового вулканизма Севера Русской платфор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0" y="6232680"/>
            <a:ext cx="70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Б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– Зимний Берег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Б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– Терский Берег Кольского п-ва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– Нёнокский район Онежского п-ова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– Умбинский район Среднего Тим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50600" y="318780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З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9040" y="249228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5080" y="386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33920" y="34034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95640" y="3319560"/>
            <a:ext cx="457200" cy="457200"/>
          </a:xfrm>
          <a:prstGeom prst="star5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637000"/>
            <a:ext cx="343080" cy="342720"/>
          </a:xfrm>
          <a:prstGeom prst="star5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67160" y="3471840"/>
            <a:ext cx="343080" cy="343080"/>
          </a:xfrm>
          <a:prstGeom prst="star5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2320" y="4941720"/>
            <a:ext cx="228600" cy="228600"/>
          </a:xfrm>
          <a:prstGeom prst="star5">
            <a:avLst/>
          </a:prstGeom>
          <a:solidFill>
            <a:srgbClr val="cc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23960" y="3814920"/>
            <a:ext cx="343080" cy="342720"/>
          </a:xfrm>
          <a:prstGeom prst="star5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57440" y="728640"/>
            <a:ext cx="58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115920"/>
            <a:ext cx="24112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«Отказы» при использовании минералогических критериев алмазоносности Соболева наиболее вероятны в районах с наибольшим разнообразием проявлений кимберлитового вулк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Именно таким регионом является Север Русской платформы, где разнообразие кимберлитового магматизма исключительно широ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Поэтому проверка применения  новых типов минералогических критериев алмазоносности была проведена именно зд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 качестве основного объекта был выбран максимально полно представленный и изученный кимберлитовый вулканизм Зимнебережного алмазоносного райо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В качестве объекта сравнения – Умбинский кимберлитовый район Среднего Тим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227640" y="333360"/>
            <a:ext cx="28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Расположение проявлений позднедевонского вулканизма в Зимнебережном кимберлитовом районе</a:t>
            </a:r>
            <a:r>
              <a:rPr b="0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91400" y="3789360"/>
            <a:ext cx="142920" cy="64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0" y="281160"/>
            <a:ext cx="6391440" cy="718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676200" y="335772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имберлитовые пор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67440" y="371628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66720" y="393372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-Ti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68520" y="4149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азаль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1280" y="530064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рхангель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307080" y="36615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Б е л о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240800">
            <a:off x="756360" y="7642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М о р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200" y="256536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Золотицкий ку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50160" y="170028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Трубка им. Гри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1916280"/>
            <a:ext cx="360360" cy="21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2708280"/>
            <a:ext cx="216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44880" y="32130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Пачугский ку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2560" y="3068640"/>
            <a:ext cx="360360" cy="2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5080" y="5048280"/>
            <a:ext cx="266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Вулканические породы Зимн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Берега </a:t>
            </a:r>
            <a:r>
              <a:rPr b="0" lang="en-US" sz="1400" spc="-1" strike="noStrike">
                <a:solidFill>
                  <a:srgbClr val="cc66ff"/>
                </a:solidFill>
                <a:latin typeface="Arial"/>
              </a:rPr>
              <a:t>крайне разнообразны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и именно здесь применяемые ранее минералог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критерии алмазоносности 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«отказы» как на </a:t>
            </a:r>
            <a:r>
              <a:rPr b="0" lang="en-US" sz="1200" spc="-1" strike="noStrike">
                <a:solidFill>
                  <a:srgbClr val="66ccff"/>
                </a:solidFill>
                <a:latin typeface="Arial"/>
              </a:rPr>
              <a:t>количественном уровне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(что не так страшно), так и на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качественном уровне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(что совершенно недопуст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08000" y="115920"/>
            <a:ext cx="6031080" cy="6742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0360" y="115920"/>
            <a:ext cx="30974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Характер распределения по площ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Зимнебережного кимберлитового рай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Тантала в автолитах (г/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и пикроильменита в вулканических пород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1844640"/>
            <a:ext cx="287280" cy="289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311600">
            <a:off x="3059280" y="2637000"/>
            <a:ext cx="504720" cy="2156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2349360"/>
            <a:ext cx="287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2637000"/>
            <a:ext cx="287280" cy="28872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193840"/>
            <a:ext cx="1517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9999"/>
                </a:solidFill>
                <a:latin typeface="Arial"/>
              </a:rPr>
              <a:t>им. Ломоносо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С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Юж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2708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63640" y="2491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40600" y="1414440"/>
            <a:ext cx="98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9999"/>
                </a:solidFill>
                <a:latin typeface="Arial"/>
              </a:rPr>
              <a:t>им. Гриб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1630440"/>
            <a:ext cx="79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84280" y="2421000"/>
            <a:ext cx="13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ачугский ку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64000" y="256500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3280" y="1844640"/>
            <a:ext cx="2952720" cy="49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Для кимберлитов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-Ti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серии Зимнего Берега сложности в применении минералогических критериев Соболева возникают на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ачественном</a:t>
            </a: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Близкие по минералогическим особенностям кимберлиты Пачугского куста и кимберлиты трубки им. Гриба различаются по алмазонос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в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30-50</a:t>
            </a: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 раз (на полтора порядка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Для кимберлитов 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l 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серии Зимнего Берега сложности в применении минералогических критериев Соболева возникают на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количественном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Петрографически однотипные разновидности кимберлитовых  пород (туффизиты или «автолитовые брекчии») в трубках Северной группы месторождения им. Ломоносова в </a:t>
            </a:r>
            <a:r>
              <a:rPr b="0" lang="ru-RU" sz="1400" spc="-1" strike="noStrike">
                <a:solidFill>
                  <a:srgbClr val="3333cc"/>
                </a:solidFill>
                <a:latin typeface="Arial"/>
              </a:rPr>
              <a:t>2-3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 раза беднее алмазами, чем в трубках Южной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8000" y="71280"/>
            <a:ext cx="424800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7400" y="115920"/>
            <a:ext cx="43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Расположение трубок Золотицкого ку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003920" cy="6626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256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8100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И если изученные кимберлиты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e-Ti </a:t>
            </a:r>
            <a:r>
              <a:rPr b="0" lang="ru-RU" sz="1200" spc="-1" strike="noStrike">
                <a:solidFill>
                  <a:srgbClr val="ffffcc"/>
                </a:solidFill>
                <a:latin typeface="Arial"/>
              </a:rPr>
              <a:t>серии Зимнего Берега расположены в десятках км друг от друга, то 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я трубки кимберлитов </a:t>
            </a:r>
            <a:r>
              <a:rPr b="0" lang="en-US" sz="1200" spc="-1" strike="noStrike">
                <a:solidFill>
                  <a:srgbClr val="ffff99"/>
                </a:solidFill>
                <a:latin typeface="Arial"/>
              </a:rPr>
              <a:t>Al </a:t>
            </a: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серии Золотицкого куста разделяет всего сто метр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333360"/>
            <a:ext cx="8712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3040"/>
            <a:ext cx="9036000" cy="62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пиропов на редкие элементы проводился на протонном микрозонд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A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астично метод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M IC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IRO Exploration and Minin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идней, Австрал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ба метода показали хорош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ходимость результат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претация характера распределения редких элементов в гранатах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илась с использованием известных методик расчё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и соответству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ционных диаграмм с выделенными полями состава минералов реперных типов п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реперных процессов 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ff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a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i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го изучено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51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ёрен пиропа из 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и кимберлитовых трубок 2-х районов Севера Рус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тформы: Зимнебережного алмазоносного района и Умбинского района Среднего Тим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вязи с тем, что для каждой конкретной трубки было выполнено минимально допустим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ичество анализов (в среднем около 50 ан.), для большей представительности анали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 сходных кимберлитовых объектов объединяются и рассматриваются в це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5-ти внутренне однородных совокупно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66"/>
                </a:solidFill>
                <a:uFillTx/>
                <a:latin typeface="Arial"/>
              </a:rPr>
              <a:t>Зимний Бер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ерия, алмазоносные трубки: Золотицкий куст, Северная групп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Ломоносовская, Пионерская, Карпинского-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ерия, алмазоносные трубки: Золотицкий куст, Южная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Карпинского-1, Архангельск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,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ерия, алмазоносные трубки (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им. Гри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ерия, убого алмазоносные трубки (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</a:rPr>
              <a:t>Ан-688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, Ан-75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66"/>
                </a:solidFill>
                <a:uFillTx/>
                <a:latin typeface="Arial"/>
              </a:rPr>
              <a:t>Средний Ти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 Неалмазоносные трубки (</a:t>
            </a:r>
            <a:r>
              <a:rPr b="0" lang="ru-RU" sz="1400" spc="-1" strike="noStrike">
                <a:solidFill>
                  <a:srgbClr val="0033cc"/>
                </a:solidFill>
                <a:latin typeface="Arial"/>
              </a:rPr>
              <a:t>Умбинск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33640" y="1954080"/>
            <a:ext cx="5076720" cy="2490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352440"/>
            <a:ext cx="85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Результаты, полученные при изучении микропримесного состава пиропов, сопоставлялись с параметрами состава гранатов реперных фаций глубинности (Соболев и др., 1972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85000" y="560880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Результаты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6094440"/>
            <a:ext cx="0" cy="647640"/>
          </a:xfrm>
          <a:prstGeom prst="line">
            <a:avLst/>
          </a:prstGeom>
          <a:ln w="50760">
            <a:solidFill>
              <a:srgbClr val="00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71280"/>
            <a:ext cx="6840360" cy="674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2597040"/>
            <a:ext cx="3240360" cy="2416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9280" y="76320"/>
            <a:ext cx="3240360" cy="2415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35280" y="130320"/>
            <a:ext cx="3241800" cy="2350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05440" y="5599080"/>
            <a:ext cx="230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макрокомпонен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остава пиропов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r2O3 – CaO – TiO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4428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имний Бере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l-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ер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Золотицкий ку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645000" y="2668680"/>
            <a:ext cx="3232080" cy="2344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164360" y="36291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Южная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1280" y="110808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верная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7280" y="40482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Богаче в 2-3 р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6560" y="5805360"/>
            <a:ext cx="6050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Количественное несоответствие критериям алмазоно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Arial"/>
              </a:rPr>
              <a:t>(в данной выборке – и качественное несоответствие тож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1200" y="4906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37400" y="30099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6920" y="2095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4,5% 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0080" y="264960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 % 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21:46:07Z</dcterms:created>
  <dc:creator>Сергей</dc:creator>
  <dc:description/>
  <dc:language>en-US</dc:language>
  <cp:lastModifiedBy>Сергей Михайлович</cp:lastModifiedBy>
  <dcterms:modified xsi:type="dcterms:W3CDTF">2017-06-07T17:12:25Z</dcterms:modified>
  <cp:revision>254</cp:revision>
  <dc:subject/>
  <dc:title>Степень астеносферного влияния      как один из определяющих факторов разнообразия кимберлитовых пород</dc:title>
</cp:coreProperties>
</file>