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6D06-8152-4DE1-AF90-5A6765EF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DC51-5516-4497-B625-4456F0D34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6C28-440D-453D-8A29-B4D9CB9F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D1DC-0E44-4181-91EF-3D904351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D6F-3666-4E28-BF71-0CD3B3CB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B4F6-9BAC-477A-B1B9-9CAFA1606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F063-610F-4D27-924D-06A0E9C0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D17-57C0-429A-8980-48D5FBA0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56B-4863-4CB4-81AC-21CBDD7B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231B-80A3-4CD0-925C-8FE42FE8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8819-C272-4C3B-9251-37980E65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BA28-30D2-4448-87DC-F29FFF22D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E17E8-CD9C-4221-9B8A-33295C39D86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178920" y="189000"/>
            <a:ext cx="8713800" cy="6372000"/>
          </a:xfrm>
          <a:prstGeom prst="rect">
            <a:avLst/>
          </a:prstGeom>
          <a:noFill/>
          <a:ln w="6984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ffff"/>
                </a:solidFill>
                <a:uFillTx/>
                <a:latin typeface="Arial"/>
              </a:rPr>
              <a:t>ФЕДЕРАЛЬНОЕ АГЕНТСТВО ПО НЕДРОПОЛЬЗОВАНИЮ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ФГБУ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ГИДРОСПЕЦГЕОЛОГИЯ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r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гиональные гидрогеологические и инженерно-геологические съемки на территории Российской Федерации. Современное состояние и направления развития региональных рабо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Москва - 2017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Rectangle 2" descr=""/>
          <p:cNvPicPr/>
          <p:nvPr/>
        </p:nvPicPr>
        <p:blipFill>
          <a:blip r:embed="rId1"/>
          <a:stretch/>
        </p:blipFill>
        <p:spPr>
          <a:xfrm>
            <a:off x="401760" y="92160"/>
            <a:ext cx="8265960" cy="100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enFO_200k_A3"/>
          <p:cNvPicPr/>
          <p:nvPr/>
        </p:nvPicPr>
        <p:blipFill>
          <a:blip r:embed="rId2"/>
          <a:stretch/>
        </p:blipFill>
        <p:spPr>
          <a:xfrm>
            <a:off x="457200" y="860400"/>
            <a:ext cx="8229600" cy="54421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1080" y="304560"/>
            <a:ext cx="8856720" cy="1050840"/>
          </a:xfrm>
          <a:prstGeom prst="rect">
            <a:avLst/>
          </a:prstGeom>
          <a:solidFill>
            <a:srgbClr val="e7f4ff"/>
          </a:solidFill>
          <a:ln w="22320">
            <a:solidFill>
              <a:srgbClr val="000099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99"/>
                </a:solidFill>
                <a:latin typeface="Arial Black"/>
              </a:rPr>
              <a:t>Основные направления развития региональных гидрогеологических и инженерно-геологических работ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8000" y="1600200"/>
            <a:ext cx="89280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. В области обзорного картографировани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этапное создание ГИС "Гидрогеологическая, инженерно-геологическая и геоэкологическая основа России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ктуализация и издание современных   гидрогеологической и инженерно-геологической карт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строение комплектов цифровых гидрохимической и   геоэкологической карт территории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2. В области мелко-среднемасштабного картографирования и съемо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доизучения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стижение ежегодного прироста гидрогеологической, инженерно-геологической и геоэкологической изученности:  масштаба 1: 1000000 -150-200 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год;  масштаба 1: 200 000 – 15-19 тыс. км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/ год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Внедрить схему общего гидрогеологического районирования территории Росси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Поэтапная актуализация и создание серийных легенд в масштабе 1: 1 000 000 п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ым гидрогеологическим структура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одготовить, апробировать и ввести в действие научно-методическое документ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ющие эффективность региональных работ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 составлению и подготовке к изданию листов государственных гидрогеологических, инженерно-геологических карт масштабов 1:1000 000 и 1:200 000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комендации по апробации и государственному учету прогнозных ресурсов категорий Р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Р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итьевых, технических и минеральных подземных 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ff"/>
            </a:gs>
            <a:gs pos="50000">
              <a:srgbClr val="c1d0ff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128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 Black"/>
              </a:rPr>
              <a:t>СХЕМА</a:t>
            </a:r>
            <a:br>
              <a:rPr sz="1800"/>
            </a:b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азмещения объектов региональных, гидрогеологических и инженерно-геологических работ на 2016-2020 г.г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sxema_rai14p"/>
          <p:cNvPicPr/>
          <p:nvPr/>
        </p:nvPicPr>
        <p:blipFill>
          <a:blip r:embed="rId1"/>
          <a:stretch/>
        </p:blipFill>
        <p:spPr>
          <a:xfrm>
            <a:off x="533520" y="990720"/>
            <a:ext cx="8153280" cy="5765760"/>
          </a:xfrm>
          <a:prstGeom prst="rect">
            <a:avLst/>
          </a:prstGeom>
          <a:ln w="34920">
            <a:solidFill>
              <a:srgbClr val="000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9960" y="252000"/>
            <a:ext cx="8815320" cy="1143000"/>
          </a:xfrm>
          <a:prstGeom prst="rect">
            <a:avLst/>
          </a:prstGeom>
          <a:solidFill>
            <a:srgbClr val="e7f4ff"/>
          </a:solidFill>
          <a:ln w="9360">
            <a:solidFill>
              <a:srgbClr val="0070c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НОРМАТИВНО-МЕТОДИЧЕСКОЕ ОБЕСПЕЧЕНИЕ ПРОВЕДЕНИЯ РЕГИОНАЛЬНЫХ ГИДРОГЕОЛОГИЧЕСКИХ РАБОТ, СОЗДАННО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90-Х И В НАЧАЛЕ 2000 ГО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28600" y="1409760"/>
            <a:ext cx="870264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тодические рекомендации по использованию компьютерных технологий при построении гидрогеологических карт. (2001 г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цифровым гидрогеологическим картам масштаба 1:1000 000, 1:200 000 и разрезам к ним.(2001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ебования к структуре и составу БД фактографической информации региональных гидрогеологических, инженерно-геологических и геоэкологических работ и регламенту представления информации. (2001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ципы гидрогеологической стратификации и районирования территории России. (ВСЕГИНГЕО, 1998, 2004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новные положения по составлению серийных легенд государственных гидрогеологических карт масштаба 1:200 000 и 1:1000 000 (ВСЕГИНГЕО, 2001 г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А ГИДРОГЕОЛОГИЧЕСКОГО РАЙОНИРОВАНИЯ"/>
          <p:cNvPicPr/>
          <p:nvPr/>
        </p:nvPicPr>
        <p:blipFill>
          <a:blip r:embed="rId1"/>
          <a:stretch/>
        </p:blipFill>
        <p:spPr>
          <a:xfrm>
            <a:off x="304920" y="409680"/>
            <a:ext cx="8534160" cy="60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46"/>
          <p:cNvSpPr/>
          <p:nvPr/>
        </p:nvSpPr>
        <p:spPr>
          <a:xfrm>
            <a:off x="-122400" y="39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245120"/>
                <a:tab algn="l" pos="87091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2"/>
          <p:cNvSpPr/>
          <p:nvPr/>
        </p:nvSpPr>
        <p:spPr>
          <a:xfrm>
            <a:off x="250920" y="115920"/>
            <a:ext cx="8686800" cy="398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алонная база условных обозначений для гидрогеологических кар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Объект 2"/>
          <p:cNvGraphicFramePr/>
          <p:nvPr/>
        </p:nvGraphicFramePr>
        <p:xfrm>
          <a:off x="228600" y="685800"/>
          <a:ext cx="1827360" cy="312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Объект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8600" y="685800"/>
                    <a:ext cx="1827360" cy="312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1" name="Picture 5" descr="Без имени-1"/>
          <p:cNvPicPr/>
          <p:nvPr/>
        </p:nvPicPr>
        <p:blipFill>
          <a:blip r:embed="rId4"/>
          <a:stretch/>
        </p:blipFill>
        <p:spPr>
          <a:xfrm>
            <a:off x="2340000" y="549360"/>
            <a:ext cx="2259000" cy="32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Без имени-2"/>
          <p:cNvPicPr/>
          <p:nvPr/>
        </p:nvPicPr>
        <p:blipFill>
          <a:blip r:embed="rId5"/>
          <a:stretch/>
        </p:blipFill>
        <p:spPr>
          <a:xfrm>
            <a:off x="2819520" y="1143000"/>
            <a:ext cx="2314440" cy="3276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Без имени-3"/>
          <p:cNvPicPr/>
          <p:nvPr/>
        </p:nvPicPr>
        <p:blipFill>
          <a:blip r:embed="rId6"/>
          <a:stretch/>
        </p:blipFill>
        <p:spPr>
          <a:xfrm>
            <a:off x="3276720" y="1523880"/>
            <a:ext cx="2442960" cy="34290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Без имени-4"/>
          <p:cNvPicPr/>
          <p:nvPr/>
        </p:nvPicPr>
        <p:blipFill>
          <a:blip r:embed="rId7"/>
          <a:stretch/>
        </p:blipFill>
        <p:spPr>
          <a:xfrm>
            <a:off x="3657600" y="2057400"/>
            <a:ext cx="2454120" cy="3429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019920" y="762120"/>
            <a:ext cx="3124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02 тематических сп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860 условных обознач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6477120" y="2209680"/>
            <a:ext cx="2361960" cy="3962520"/>
          </a:xfrm>
          <a:prstGeom prst="rect">
            <a:avLst/>
          </a:prstGeom>
          <a:ln w="0">
            <a:noFill/>
          </a:ln>
        </p:spPr>
      </p:pic>
      <p:sp>
        <p:nvSpPr>
          <p:cNvPr id="57" name="Line 10"/>
          <p:cNvSpPr/>
          <p:nvPr/>
        </p:nvSpPr>
        <p:spPr>
          <a:xfrm>
            <a:off x="2057400" y="380988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2"/>
          <p:cNvSpPr/>
          <p:nvPr/>
        </p:nvSpPr>
        <p:spPr>
          <a:xfrm>
            <a:off x="5791320" y="5410080"/>
            <a:ext cx="68580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152280" y="617220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матические списки для модул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pDesigne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граммы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46"/>
          <p:cNvSpPr/>
          <p:nvPr/>
        </p:nvSpPr>
        <p:spPr>
          <a:xfrm>
            <a:off x="-122400" y="39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4245120"/>
                <a:tab algn="l" pos="87091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395280" y="260280"/>
            <a:ext cx="8229600" cy="720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а тематическиех спис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95280" y="1125360"/>
            <a:ext cx="8373960" cy="5473800"/>
          </a:xfrm>
          <a:prstGeom prst="rect">
            <a:avLst/>
          </a:prstGeom>
          <a:solidFill>
            <a:srgbClr val="bbe0e3"/>
          </a:solidFill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еохронологическая шк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Эрат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айноз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езозой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алеозойска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терозо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истем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геологические подразде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 криолитозон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омплекс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Форм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оризон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оны открытой трещинноват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алегающие ниже первых от поверх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криолитозоне/деление по система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орные водопун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Естественные подопроя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кусственные водопроя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одозаборные сооруж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ункты наблюдений за режимом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идрогеодинамические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Движение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ип химического состава воды в опорных пунктах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итание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грузка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еокриологические услов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остранение многолетнемерзлых пор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риогенные яв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Гидрологические услов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ехногенные объек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огенные объекты и сооружения, воздействующие на понижение уровня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ехногенные объекты, влияющие на повышения уровня подземных вод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точники загрязнения подземных в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Карта1.jpg"/>
          <p:cNvPicPr/>
          <p:nvPr/>
        </p:nvPicPr>
        <p:blipFill>
          <a:blip r:embed="rId1"/>
          <a:stretch/>
        </p:blipFill>
        <p:spPr>
          <a:xfrm>
            <a:off x="165240" y="1343160"/>
            <a:ext cx="8834400" cy="5010120"/>
          </a:xfrm>
          <a:prstGeom prst="rect">
            <a:avLst/>
          </a:prstGeom>
          <a:ln w="25560">
            <a:solidFill>
              <a:srgbClr val="000099"/>
            </a:solidFill>
            <a:miter/>
          </a:ln>
        </p:spPr>
      </p:pic>
      <p:pic>
        <p:nvPicPr>
          <p:cNvPr id="64" name="Заголовок 1" descr=""/>
          <p:cNvPicPr/>
          <p:nvPr/>
        </p:nvPicPr>
        <p:blipFill>
          <a:blip r:embed="rId2"/>
          <a:stretch/>
        </p:blipFill>
        <p:spPr>
          <a:xfrm>
            <a:off x="152280" y="208080"/>
            <a:ext cx="897264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Rectangle 2" descr=""/>
          <p:cNvPicPr/>
          <p:nvPr/>
        </p:nvPicPr>
        <p:blipFill>
          <a:blip r:embed="rId1"/>
          <a:stretch/>
        </p:blipFill>
        <p:spPr>
          <a:xfrm>
            <a:off x="128520" y="500040"/>
            <a:ext cx="8802720" cy="1189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136440" y="1892160"/>
            <a:ext cx="8778960" cy="3667320"/>
          </a:xfrm>
          <a:prstGeom prst="rect">
            <a:avLst/>
          </a:prstGeom>
          <a:noFill/>
          <a:ln w="22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36440">
              <a:lnSpc>
                <a:spcPct val="70000"/>
              </a:lnSpc>
              <a:spcBef>
                <a:spcPts val="4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Информационно-аналитическая система (ИАС) </a:t>
            </a:r>
            <a:r>
              <a:rPr b="1" lang="ru-RU" sz="2200" spc="-1" strike="noStrike">
                <a:solidFill>
                  <a:srgbClr val="000066"/>
                </a:solidFill>
                <a:latin typeface="Arial"/>
              </a:rPr>
              <a:t>«Гидрогеологическая изученность территории России»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предназначен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для поисков отчётов выполненных гидрогеологических,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инженерно-геологических и геоэкологических работ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- отображения результатов региональных работ в виде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55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карт-схем изученности территории РФ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66"/>
                </a:solidFill>
                <a:latin typeface="Arial"/>
              </a:rPr>
              <a:t>Система позволяет осуществлять выбор объектов поиска по определённым запросам</a:t>
            </a:r>
            <a:r>
              <a:rPr b="0" lang="ru-RU" sz="20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364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Rectangle 2" descr=""/>
          <p:cNvPicPr/>
          <p:nvPr/>
        </p:nvPicPr>
        <p:blipFill>
          <a:blip r:embed="rId1"/>
          <a:stretch/>
        </p:blipFill>
        <p:spPr>
          <a:xfrm>
            <a:off x="378000" y="36360"/>
            <a:ext cx="8253360" cy="14083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FO_200k_A3"/>
          <p:cNvPicPr/>
          <p:nvPr/>
        </p:nvPicPr>
        <p:blipFill>
          <a:blip r:embed="rId2"/>
          <a:stretch/>
        </p:blipFill>
        <p:spPr>
          <a:xfrm>
            <a:off x="274680" y="1538280"/>
            <a:ext cx="8458200" cy="4816440"/>
          </a:xfrm>
          <a:prstGeom prst="rect">
            <a:avLst/>
          </a:prstGeom>
          <a:ln w="22320">
            <a:solidFill>
              <a:srgbClr val="000099"/>
            </a:solidFill>
            <a:miter/>
          </a:ln>
        </p:spPr>
      </p:pic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6689880" y="2475000"/>
            <a:ext cx="1757160" cy="3660840"/>
          </a:xfrm>
          <a:prstGeom prst="rect">
            <a:avLst/>
          </a:prstGeom>
          <a:ln w="28440">
            <a:solidFill>
              <a:srgbClr val="000099"/>
            </a:solidFill>
            <a:miter/>
          </a:ln>
        </p:spPr>
      </p:pic>
      <p:pic>
        <p:nvPicPr>
          <p:cNvPr id="70" name="Заголовок 1" descr=""/>
          <p:cNvPicPr/>
          <p:nvPr/>
        </p:nvPicPr>
        <p:blipFill>
          <a:blip r:embed="rId4"/>
          <a:stretch/>
        </p:blipFill>
        <p:spPr>
          <a:xfrm>
            <a:off x="6656400" y="1798560"/>
            <a:ext cx="1859040" cy="7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06:09:10Z</dcterms:created>
  <dc:creator>User</dc:creator>
  <dc:description/>
  <dc:language>en-US</dc:language>
  <cp:lastModifiedBy>Валерий Лукьянчиков</cp:lastModifiedBy>
  <dcterms:modified xsi:type="dcterms:W3CDTF">2017-04-15T13:55:00Z</dcterms:modified>
  <cp:revision>86</cp:revision>
  <dc:subject/>
  <dc:title>Прогнозное распределение уровней подземных вод верхнемелового водоносного горизонта  с максимальной нагрузкой через 50 лет эксплуатации</dc:title>
</cp:coreProperties>
</file>